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FC7-DC65-4A09-982D-61206445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C3F-A889-4993-AF42-9300AE87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81A2-9246-4975-AEAF-349BCC4E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A21-32FB-460B-9A84-6632850D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638-5032-41E8-B170-E8DA7D89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C25-E7F5-4085-84CD-2B1EEAF0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355-7840-40A1-B6C8-7EEF8491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7D9-BC8A-4F35-AD01-7D321DCA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994-4933-4A40-8027-66CF01A1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145-EF6A-4F02-9894-F19B999E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D9A-4BBC-46AC-B937-D2036491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6BD-3C0A-4908-A950-09DD835D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0956-03CD-439E-9819-30DB2676C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Utopia%20Restore%20Up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Utopia%20Restore%20Up.wa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over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407376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3" name="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33440" y="1295280"/>
            <a:ext cx="3233160" cy="82512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Book Ti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5640" y="5334120"/>
            <a:ext cx="2545920" cy="5205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By You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  <a:hlinkClick r:id="rId3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an simply add you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wn text and pic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to each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st click to add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r use Insert Pi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py this page as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mes as you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y changing the auto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ttings, the paper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colour or te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ho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  <a:hlinkClick r:id="rId2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over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407340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533520" y="609480"/>
            <a:ext cx="4038480" cy="54104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63300"/>
              </a:gs>
            </a:gsLst>
            <a:lin ang="108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609480"/>
            <a:ext cx="35049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r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a little help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2:13:16Z</dcterms:created>
  <dc:creator>Ian Bean</dc:creator>
  <dc:description/>
  <dc:language>en-US</dc:language>
  <cp:lastModifiedBy>Elisa Wern</cp:lastModifiedBy>
  <dcterms:modified xsi:type="dcterms:W3CDTF">2004-01-20T20:26:09Z</dcterms:modified>
  <cp:revision>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>http://freespeace.virginnet.co.uk/ian.priorywoods/index.html</vt:lpwstr>
  </property>
  <property fmtid="{D5CDD505-2E9C-101B-9397-08002B2CF9AE}" pid="9" name="LinkColor">
    <vt:r8>16711782</vt:r8>
  </property>
  <property fmtid="{D5CDD505-2E9C-101B-9397-08002B2CF9AE}" pid="10" name="MailAddress">
    <vt:lpwstr>ian.priorywoods@virginnet.co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\Powertest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